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B386-03F4-4A6A-A697-AD22B496E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1179-D388-4572-81E0-6EFBD57A5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DFA38-CC0E-4CE6-BFFC-EE813ECE1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71CC-7E5E-41C2-8CB7-4465B60AF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2B73-B311-40DA-8551-332D6A145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73F5-7559-47AB-83CD-06E0D0BEA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DC55-6DAF-42F7-AA99-7C62ADAE2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8BD3-1DDA-49AE-9D7A-E351528AA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2AEA-F95F-421B-AB9D-4BB51CC73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819F-08AA-41D0-85AF-F8CD45B6C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67E21-2BB6-42F9-B77E-57C80EA04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3F58-BFA8-4627-974C-DA627BBF6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CED651A4-8945-4C02-957E-4D44C88EE4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8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723CE850-8071-4DE9-992B-10D536B3CC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04400" y="4191120"/>
            <a:ext cx="3399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Je ne veux rien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voir passer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DAC3_p272"/>
          <p:cNvPicPr/>
          <p:nvPr/>
        </p:nvPicPr>
        <p:blipFill>
          <a:blip r:embed="rId1"/>
          <a:stretch/>
        </p:blipFill>
        <p:spPr>
          <a:xfrm>
            <a:off x="873000" y="1905120"/>
            <a:ext cx="372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5731B455-695A-4E06-AE83-D40B471686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initive is often used to give instructions or commands, as in recipes or on public 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2793960"/>
          <a:ext cx="7924680" cy="1244520"/>
        </p:xfrm>
        <a:graphic>
          <a:graphicData uri="http://schemas.openxmlformats.org/drawingml/2006/table">
            <a:tbl>
              <a:tblPr/>
              <a:tblGrid>
                <a:gridCol w="4724280"/>
                <a:gridCol w="3200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 four pendant 15 minut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 in the oven for 15 minut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</a:t>
                      </a: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r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not touch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DA33B653-838B-42FB-9B98-72318BA3A4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t infinitive is formed with the infinitiv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êt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the past participle of the verb. The past infinitive is often us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è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3182760"/>
          <a:ext cx="8610480" cy="1371600"/>
        </p:xfrm>
        <a:graphic>
          <a:graphicData uri="http://schemas.openxmlformats.org/drawingml/2006/table">
            <a:tbl>
              <a:tblPr/>
              <a:tblGrid>
                <a:gridCol w="4647960"/>
                <a:gridCol w="3962520"/>
              </a:tblGrid>
              <a:tr h="1374120">
                <a:tc>
                  <a:txBody>
                    <a:bodyPr lIns="90000" rIns="3657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avoir crié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nt deux heures au match, j’avais mal à la gorg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shouting for two hours at the game, my throat hur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36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er soir, ils ont décidé de voir une pièc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être sortis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t night, they decided to see a play after going 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821CAFD9-4C8A-477E-8B4D-311E294E0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st participle used with the past infinitive agrees just as it would if the helping verb were conjugated. Place object pronouns before the helping ver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3274920"/>
          <a:ext cx="8305920" cy="1371600"/>
        </p:xfrm>
        <a:graphic>
          <a:graphicData uri="http://schemas.openxmlformats.org/drawingml/2006/table">
            <a:tbl>
              <a:tblPr/>
              <a:tblGrid>
                <a:gridCol w="3886200"/>
                <a:gridCol w="441972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n’aimait plus la comédi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l’avoir v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q fo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didn’t like the comedy any more after seeing it five tim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s’être promené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s la pluie, elle a attrapé un rhu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walking in the rain, she caught a cold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8F5B151B-B150-4BA5-A41D-FFC2EA1C82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an infinitive instead of the subjunctive when there is no change of subject between clauses or with impersonal expressions that have a general meaning and no true subj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2809800"/>
          <a:ext cx="8381880" cy="3584520"/>
        </p:xfrm>
        <a:graphic>
          <a:graphicData uri="http://schemas.openxmlformats.org/drawingml/2006/table">
            <a:tbl>
              <a:tblPr/>
              <a:tblGrid>
                <a:gridCol w="4003560"/>
                <a:gridCol w="301680"/>
                <a:gridCol w="4076640"/>
              </a:tblGrid>
              <a:tr h="669960"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unctive: subject change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cl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marL="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: no subject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cl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b5737"/>
                      </a:solidFill>
                    </a:lnL>
                    <a:lnR w="13680">
                      <a:solidFill>
                        <a:srgbClr val="eb5737"/>
                      </a:solidFill>
                    </a:lnR>
                    <a:lnT w="13680">
                      <a:solidFill>
                        <a:srgbClr val="eb5737"/>
                      </a:solidFill>
                    </a:lnT>
                    <a:lnB w="13680">
                      <a:solidFill>
                        <a:srgbClr val="eb5737"/>
                      </a:solidFill>
                    </a:lnB>
                    <a:noFill/>
                  </a:tcPr>
                </a:tc>
              </a:tr>
              <a:tr h="2923200">
                <a:tc>
                  <a:txBody>
                    <a:bodyPr lIns="90000" rIns="0" tIns="13716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Papa désire</a:t>
                      </a:r>
                      <a:r>
                        <a:rPr b="1" lang="en-US" sz="1600" spc="-1" strike="noStrike">
                          <a:solidFill>
                            <a:srgbClr val="005da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nous allion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wants us to go to the be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téphanie et Lionel préfèrent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leurs enfants ne regardent pa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p la télévision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éphanie and Lionel prefer that their children do not watch too much tele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l vaut mieux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</a:t>
                      </a: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elle mette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norak pour faire du ski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hould wear a parka to go ski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46800" anchor="t">
                      <a:noAutofit/>
                    </a:bodyPr>
                    <a:p>
                      <a:pPr marL="114480"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Papa désire aller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wants to go to the bea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Stéphanie et Lionel préfèrent ne pas trop regarder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télévision.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éphanie and Lionel prefer to not watch too much tele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d6b46"/>
                          </a:solidFill>
                          <a:latin typeface="Arial"/>
                        </a:rPr>
                        <a:t>Il vaut mieux mettre</a:t>
                      </a:r>
                      <a:r>
                        <a:rPr b="1" lang="en-US" sz="1600" spc="-1" strike="noStrike">
                          <a:solidFill>
                            <a:srgbClr val="ff4d3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anorak pour faire du ski.</a:t>
                      </a:r>
                      <a:br>
                        <a:rPr sz="1600"/>
                      </a:b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best to wear a parka to go ski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b5737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21246661-DD6C-4DA4-8737-63343CBB99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infinitive can follow many conjugated verbs directly. To negate the conjugated verb, plac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… pa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ma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etc.) around 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609480" y="2438280"/>
            <a:ext cx="7925040" cy="2819520"/>
          </a:xfrm>
          <a:prstGeom prst="roundRect">
            <a:avLst>
              <a:gd name="adj" fmla="val 12931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438280"/>
          <a:ext cx="7772400" cy="2819520"/>
        </p:xfrm>
        <a:graphic>
          <a:graphicData uri="http://schemas.openxmlformats.org/drawingml/2006/table">
            <a:tbl>
              <a:tblPr/>
              <a:tblGrid>
                <a:gridCol w="2324160"/>
                <a:gridCol w="2906640"/>
                <a:gridCol w="2541600"/>
              </a:tblGrid>
              <a:tr h="2819520"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k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pec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lieve to be (doing someth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si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tes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t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cou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sten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nd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to/m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é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op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s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llow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ar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ît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eem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s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tend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ble to/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fér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fer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 w="13680">
                      <a:solidFill>
                        <a:srgbClr val="005da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37160" bIns="46800" anchor="t">
                      <a:noAutofit/>
                    </a:bodyPr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tendr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laim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know how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bl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ppear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haite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ish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om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5da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76320" y="5410080"/>
          <a:ext cx="8915400" cy="731880"/>
        </p:xfrm>
        <a:graphic>
          <a:graphicData uri="http://schemas.openxmlformats.org/drawingml/2006/table">
            <a:tbl>
              <a:tblPr/>
              <a:tblGrid>
                <a:gridCol w="4190760"/>
                <a:gridCol w="472464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tons obte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billet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’re expecting to get ticket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rétend pas ê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fan de l’équip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doesn’t claim to be a fan of the tea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23AD7E8F-D6B4-421F-9B31-5209AA43A7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23960" y="1571760"/>
          <a:ext cx="7696080" cy="33811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9764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mber tha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describes actions occurring in the near future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r d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describes actions that have or ha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r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74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vont marquer un but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re going to score a goa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874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enait de fêter son 100e anniversaire quand il est m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had just celebrated his 100th birthday when he di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B92A339B-58BA-45F9-8122-334E83896E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erbs are used with a preposition, usu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efore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665440"/>
          <a:ext cx="7470720" cy="1371600"/>
        </p:xfrm>
        <a:graphic>
          <a:graphicData uri="http://schemas.openxmlformats.org/drawingml/2006/table">
            <a:tbl>
              <a:tblPr/>
              <a:tblGrid>
                <a:gridCol w="3622680"/>
                <a:gridCol w="3848040"/>
              </a:tblGrid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meilleurs athlète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rivent à fin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our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est athletes manage to run the whole ra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’oublient jamais de siffl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nt le mat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never forget to whistle during the ga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BCC8BABA-5323-4B30-A493-527DFAB70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place any pronouns before either the conjugated verb or the infinitive, depending on which one they are the objects of. Do not contract the preposi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irect object prono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3479760"/>
          <a:ext cx="8229600" cy="1244520"/>
        </p:xfrm>
        <a:graphic>
          <a:graphicData uri="http://schemas.openxmlformats.org/drawingml/2006/table">
            <a:tbl>
              <a:tblPr/>
              <a:tblGrid>
                <a:gridCol w="4419360"/>
                <a:gridCol w="381024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’ai entendue chant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e foi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eard her sing onc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bliera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e fa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won’t forget to do i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90DD1235-EA17-436D-BFFF-5145017181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gate an infinitive after a conjugated verb, place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before the infinitive. Pla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before any pronouns that accompany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3122640"/>
          <a:ext cx="8763120" cy="1244520"/>
        </p:xfrm>
        <a:graphic>
          <a:graphicData uri="http://schemas.openxmlformats.org/drawingml/2006/table">
            <a:tbl>
              <a:tblPr/>
              <a:tblGrid>
                <a:gridCol w="4038480"/>
                <a:gridCol w="472464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 prof a décidé d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ven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teacher decided not to com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us préférez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 pas leur en parle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 prefer not to speak to them about it?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91070002-4D69-473B-9630-33141BA44E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sonal expressions of the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est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re follow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to describe a general opin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faut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vaut mieux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llowed directly by an infinitive to express obl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3503520"/>
          <a:ext cx="8458200" cy="1244520"/>
        </p:xfrm>
        <a:graphic>
          <a:graphicData uri="http://schemas.openxmlformats.org/drawingml/2006/table">
            <a:tbl>
              <a:tblPr/>
              <a:tblGrid>
                <a:gridCol w="4267080"/>
                <a:gridCol w="419112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est important de faire 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a gy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is important to work ou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faut se détendre </a:t>
                      </a:r>
                      <a:r>
                        <a:rPr b="0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le travai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s to relax after wor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06DE4B5B-9446-4EF0-9797-28E2559F2E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bs usually take an indirect object befo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Such verbs inclu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i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et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ér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3098880"/>
          <a:ext cx="8534520" cy="1244520"/>
        </p:xfrm>
        <a:graphic>
          <a:graphicData uri="http://schemas.openxmlformats.org/drawingml/2006/table">
            <a:tbl>
              <a:tblPr/>
              <a:tblGrid>
                <a:gridCol w="4191120"/>
                <a:gridCol w="4343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an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i a demandé d’achet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épinard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m asked him to buy spinach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r permettons de rentrer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onze heure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let them come home at 11 o’clock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-</a:t>
            </a:r>
            <a:fld id="{AA29D07A-AE45-4FF8-B374-250CA4B2F7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participle can act as the subject of a verb in English, but in this case French uses the infin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2793960"/>
          <a:ext cx="7924680" cy="1244520"/>
        </p:xfrm>
        <a:graphic>
          <a:graphicData uri="http://schemas.openxmlformats.org/drawingml/2006/table">
            <a:tbl>
              <a:tblPr/>
              <a:tblGrid>
                <a:gridCol w="4724280"/>
                <a:gridCol w="32004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Êt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enfant n’est pas toujours faci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ng a child is not always easy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c’est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ir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ing is believ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initiv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3-16T12:27:13Z</dcterms:modified>
  <cp:revision>200</cp:revision>
  <dc:subject>D'accord! 3 • Leçon 8: S’évader et s’amuser</dc:subject>
  <dc:title>8.1 Infinitives</dc:title>
</cp:coreProperties>
</file>